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12746-5436-45F2-8E4E-473514178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EB786-6EE3-4F18-AFB3-2CADDB12F3F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4C753-11A2-4691-88D1-1C79D2E666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484A5-CFC8-4B0B-B8BF-54C5C3857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41E7E-ACB1-4038-A7F8-74EAAA090A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A03EED-A866-4399-82BD-A8AEA745A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DDA19-DDF4-4AC6-BEF1-9A32CAECC9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95447B-8909-4A64-B053-E74025D67F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6B672B-7762-45CA-A5FD-8A244879A1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C3C5B7-A1C8-4C37-BA44-1B0C0D8A3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F4F92-B317-4778-9109-5E5071E4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584B0-5959-4289-B8B5-0922215AB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4058F-5739-4CE2-9D18-9D59D37D46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E30C97-80BC-42D8-8FAE-05D225D23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DB0CE5-A5CB-43F8-AD61-8F5BA7E97B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BC9F9-02E3-4E97-91FB-58F49EBB93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ADB85-FC01-40AD-B207-C2EA9F035C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57D8D-E43B-47E4-A89F-CB77D6C201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DB7F6-98E6-4862-912D-81AE414040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4715C-DFB3-4853-B98D-4991D2F0D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2F894-08E8-4F12-B1DB-267CD33B2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09987-4076-4D5A-9BB7-65837B7CE0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206-4226-438B-A9E6-E72E91209C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BDB98-D44C-4940-8E04-46B17D23A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EBEF22-4884-419B-93C4-39E1C67708D6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08D013-D505-459F-B579-4E18C2D03CBD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llnl.gov/CASC/components" TargetMode="External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http://www.mcs.anl.gov/petsc/petsc-3/bootstrap.sh" TargetMode="External"/><Relationship Id="rId2" Type="http://schemas.openxmlformats.org/officeDocument/2006/relationships/hyperlink" Target="http://www.mcs.anl.gov/petsc/petsc-3/bootstrap.sh" TargetMode="External"/><Relationship Id="rId3" Type="http://schemas.openxmlformats.org/officeDocument/2006/relationships/hyperlink" Target="http://www.mcs.anl.gov/petsc/petsc-3/bootstrap.sh" TargetMode="External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http://www.mcs.anl.gov/sidl" TargetMode="External"/><Relationship Id="rId2" Type="http://schemas.openxmlformats.org/officeDocument/2006/relationships/hyperlink" Target="http://www.mcs.anl.gov/sidl" TargetMode="External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http://www.bitkeeper.com/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09120" y="990360"/>
            <a:ext cx="807732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333399"/>
                </a:solidFill>
                <a:latin typeface="Tahoma"/>
              </a:rPr>
              <a:t>Getting Started with SIDL using the ANL SIDL Environment (ASE)</a:t>
            </a:r>
            <a:endParaRPr b="0" lang="en-US" sz="40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609120" y="3429000"/>
            <a:ext cx="762012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NL SIDL compilers are based on the Scientific Interface Definition Language (SIDL) and compiler developed by the </a:t>
            </a:r>
            <a:r>
              <a:rPr b="0" lang="en-US" sz="24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LLNL Babel tea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tart Bootstrap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trieve the Python scrip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mcs.anl.gov/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r>
              <a:rPr b="0" lang="en-US" sz="2000" spc="-1" strike="noStrike" u="sng">
                <a:solidFill>
                  <a:srgbClr val="ff0000"/>
                </a:solidFill>
                <a:uFillTx/>
                <a:latin typeface="Tahoma"/>
                <a:hlinkClick r:id="rId3"/>
              </a:rPr>
              <a:t>/bootstrap.sh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k://sidl.bkbits.net/BuildSystem/install/bootstrap.p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ecute the scri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s Bitkeeper to retrieve BuildSyste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tructs the initial SIDL Compiler and Run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ont En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teractive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curses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front en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ninteractive batch mod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System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ed automatically by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figur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uild (make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rgument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Build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ed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places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configur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,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make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and </a:t>
            </a:r>
            <a:r>
              <a:rPr b="0" lang="en-US" sz="3200" spc="-1" strike="noStrike">
                <a:solidFill>
                  <a:srgbClr val="000000"/>
                </a:solidFill>
                <a:latin typeface="Franklin Gothic Medium"/>
              </a:rPr>
              <a:t>RP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s md5 rather than timestamp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ntrol flow explicitly construct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builds a DAG with node ob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ackets flow along ed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des operate on packet cont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 System Overview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equirements for user make.p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project name and UR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URLs for required projec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ually SIDL Runtime is requir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IDL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ecify server langua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rbitrary targets declared using t_foo()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914040" y="1981080"/>
            <a:ext cx="807732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r handles SIDL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time hand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loa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disp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erence count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Runtim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k://sidl.bkbits.net/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oilerplate User Make.p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990360" y="1752480"/>
            <a:ext cx="8001000" cy="5105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user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ilese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build.framework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project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mport sys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class PetscMake(build.framework.Framework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__init__(self, clArgs = None, argDB = None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proj = project.Project(‘myProject’, ‘bk://me.bkbits.net/myProject’, self.getRoot()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build.framework.Framework.__init__(self, proj, clArgs, argDB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t_getDependencies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return [‘bk://sidl.bkbits.net/Runtime’]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Project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filesets[‘sidl’] = build.fileset.ExtensionFileSet(self.project.getRoot(), ‘.sidl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def setupBuild(self):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self.sidlTemplate.addServer(‘Python’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imes New Roman"/>
              </a:rPr>
              <a:t>if __name__ == ‘__main__’: PetscMake(sys.argv[1:]).main(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Examp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driver/python/helloWorld.p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ok at implementation code in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server-&lt;lang&gt;-&lt;sidl filename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ry C++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compileProgra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bin/helloWorldCx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SIDL Regression Test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er.py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bk://sidl.bkbits.net/Regre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./make.py runTe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cientific Interface Definition Language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language independent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way of defining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calling sequences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 for scientific software librar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s calling libraries from and writing libraries with any languag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pports C++, Fortran90, Python, Matlab, Mathematica, C, F77,….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veloped by the components team at LLN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Compiler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system that generates all the code needed to call SIDL libraries from a particular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 general, each programming language has its own SIDL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ANL compiler is defined using SIDL and written in Pyth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 system for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unning the SIDL compil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naging all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mpiling (ie. C++,F90) the generated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uilding the appropriate librar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ating and loading libraries at run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 ANL enviroment is called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ANL SIDL Environment Requirements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Python 2.2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(or later) – A powerful, portable scripting programming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BitKeeper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– A freely available software revision control syste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Windows only) – The freely available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ygwin Unix emulation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++ compil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150560" y="914400"/>
            <a:ext cx="7792920" cy="846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99"/>
                </a:solidFill>
                <a:latin typeface="Tahoma"/>
              </a:rPr>
              <a:t>Installing the ANL SIDL Environment</a:t>
            </a:r>
            <a:endParaRPr b="0" lang="en-US" sz="32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www.mcs.anl.gov/</a:t>
            </a:r>
            <a:r>
              <a:rPr b="0" lang="en-US" sz="3200" spc="-1" strike="noStrike" u="sng">
                <a:solidFill>
                  <a:srgbClr val="ff0000"/>
                </a:solidFill>
                <a:uFillTx/>
                <a:latin typeface="Tahoma"/>
                <a:hlinkClick r:id="rId2"/>
              </a:rPr>
              <a:t>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ownload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bootstrap.sh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BuildSystem/install/gui.py to install additional SIDL language compilers and other SIDL scientific software librari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The rest of the slides provide more details on the ANL SIDL Environment and how it work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y need to be revi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Installa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ecute Bootstra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Build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tall Compiler and Run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stall SIDL Examp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(</a:t>
            </a:r>
            <a:r>
              <a:rPr b="0" lang="en-US" sz="3200" spc="-1" strike="noStrike">
                <a:solidFill>
                  <a:srgbClr val="ffcf01"/>
                </a:solidFill>
                <a:latin typeface="Tahoma"/>
              </a:rPr>
              <a:t>Optiona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) Install Regress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Setup Distribution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Install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ff0000"/>
                </a:solidFill>
                <a:uFillTx/>
                <a:latin typeface="Tahoma"/>
                <a:hlinkClick r:id="rId1"/>
              </a:rPr>
              <a:t>http://www.bitkeeper.co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lso provides version contro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organized into </a:t>
            </a:r>
            <a:r>
              <a:rPr b="0" i="1" lang="en-US" sz="3200" spc="-1" strike="noStrike">
                <a:solidFill>
                  <a:srgbClr val="000000"/>
                </a:solidFill>
                <a:latin typeface="Tahoma"/>
              </a:rPr>
              <a:t>Projec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is a Bitkeeper reposito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contain several SIDL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gisters in a databa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17T15:04:09Z</dcterms:created>
  <dc:creator> </dc:creator>
  <dc:description/>
  <dc:language>en-US</dc:language>
  <cp:lastModifiedBy>Barry Smith</cp:lastModifiedBy>
  <dcterms:modified xsi:type="dcterms:W3CDTF">2003-04-25T16:08:23Z</dcterms:modified>
  <cp:revision>33</cp:revision>
  <dc:subject/>
  <dc:title>Getting Started with SIDL</dc:title>
</cp:coreProperties>
</file>