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7F731-B6D4-4755-AB1D-FFA843FF45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191E2-35C0-4BFC-A7DB-7DCB545F15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292EF7-6527-4D09-9001-FC2FCE8BC0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62A637-4C80-4A45-861F-308ED5646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74999-C585-4387-84A0-A1D458595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346AE-0053-4BD7-A5DF-43157E3A28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140587-A2C5-41F1-9773-3A9EF79BAC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2506E-2B0D-4F2B-82FD-8C737BDE8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7CF04A-5AF9-4BA4-BCA3-B6A970E54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6333BE-24F7-443B-84D5-D2DBBB1060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1B70DC-D606-4008-8D97-8B61738ED3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B0F54-840C-4E00-A1E2-B79FDA8A50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768DE-84FF-43ED-9574-70BBA574F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CF7A6C-619A-4F64-929C-3DB45D612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4819-6E95-4867-90F2-24D18D773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1" name="PlaceHolder 5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FADD55-3A12-48DE-9BE9-F8A8B2D1BA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381060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6438240" y="20178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1182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/>
          </p:nvPr>
        </p:nvSpPr>
        <p:spPr>
          <a:xfrm>
            <a:off x="381060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7"/>
          <p:cNvSpPr>
            <a:spLocks noGrp="1"/>
          </p:cNvSpPr>
          <p:nvPr>
            <p:ph/>
          </p:nvPr>
        </p:nvSpPr>
        <p:spPr>
          <a:xfrm>
            <a:off x="6438240" y="41673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9A3B91-B77E-4E51-845D-8BF4727F7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9863F-A164-4144-B2AB-FB53C57D36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46A43-1C13-4D57-8BA6-5B73B2BF89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CD673-DCA9-40AC-910E-AEBE165D3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1150560" y="617040"/>
            <a:ext cx="779292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6061EB-D802-4E75-8328-24F1C714BC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8D134-9332-468A-85D1-9D23909D1B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5165280" y="41673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7563B-FEA0-4836-BE84-2CB1789C7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65280" y="20178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182600" y="41673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9AA03-97FA-4CF4-B6BA-35CCEC0D43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417600" y="1098720"/>
            <a:ext cx="438120" cy="474480"/>
          </a:xfrm>
          <a:prstGeom prst="rect">
            <a:avLst/>
          </a:prstGeom>
          <a:solidFill>
            <a:srgbClr val="ffcf0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00280" y="1098720"/>
            <a:ext cx="32832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ffcf01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541440" y="1521000"/>
            <a:ext cx="422280" cy="474480"/>
          </a:xfrm>
          <a:prstGeom prst="rect">
            <a:avLst/>
          </a:prstGeom>
          <a:solidFill>
            <a:srgbClr val="3333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911160" y="1521000"/>
            <a:ext cx="368280" cy="4744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3333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127080" y="1447920"/>
            <a:ext cx="560160" cy="422280"/>
          </a:xfrm>
          <a:prstGeom prst="rect">
            <a:avLst/>
          </a:prstGeom>
          <a:gradFill rotWithShape="0">
            <a:gsLst>
              <a:gs pos="0">
                <a:srgbClr val="ff0000"/>
              </a:gs>
              <a:gs pos="100000">
                <a:srgbClr val="ffffff"/>
              </a:gs>
            </a:gsLst>
            <a:lin ang="81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762120" y="990720"/>
            <a:ext cx="31680" cy="1052280"/>
          </a:xfrm>
          <a:prstGeom prst="rect">
            <a:avLst/>
          </a:prstGeom>
          <a:solidFill>
            <a:srgbClr val="1c1c1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>
            <a:off x="442800" y="1781280"/>
            <a:ext cx="8226360" cy="3168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1c1c1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15120" bIns="-151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9144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33526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67816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A1C90D-65E6-4966-89E2-6EADF7E2B3E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2438280"/>
            <a:ext cx="9009000" cy="1052640"/>
            <a:chOff x="0" y="2438280"/>
            <a:chExt cx="9009000" cy="1052640"/>
          </a:xfrm>
        </p:grpSpPr>
        <p:grpSp>
          <p:nvGrpSpPr>
            <p:cNvPr id="49" name=""/>
            <p:cNvGrpSpPr/>
            <p:nvPr/>
          </p:nvGrpSpPr>
          <p:grpSpPr>
            <a:xfrm>
              <a:off x="290520" y="2546280"/>
              <a:ext cx="711360" cy="474840"/>
              <a:chOff x="290520" y="2546280"/>
              <a:chExt cx="711360" cy="474840"/>
            </a:xfrm>
          </p:grpSpPr>
          <p:sp>
            <p:nvSpPr>
              <p:cNvPr id="50" name=""/>
              <p:cNvSpPr/>
              <p:nvPr/>
            </p:nvSpPr>
            <p:spPr>
              <a:xfrm>
                <a:off x="290520" y="2546280"/>
                <a:ext cx="437400" cy="47484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1" name=""/>
              <p:cNvSpPr/>
              <p:nvPr/>
            </p:nvSpPr>
            <p:spPr>
              <a:xfrm>
                <a:off x="673560" y="2546280"/>
                <a:ext cx="32832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3333cc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52" name=""/>
            <p:cNvGrpSpPr/>
            <p:nvPr/>
          </p:nvGrpSpPr>
          <p:grpSpPr>
            <a:xfrm>
              <a:off x="414360" y="2968560"/>
              <a:ext cx="737640" cy="474840"/>
              <a:chOff x="414360" y="2968560"/>
              <a:chExt cx="737640" cy="474840"/>
            </a:xfrm>
          </p:grpSpPr>
          <p:sp>
            <p:nvSpPr>
              <p:cNvPr id="53" name=""/>
              <p:cNvSpPr/>
              <p:nvPr/>
            </p:nvSpPr>
            <p:spPr>
              <a:xfrm>
                <a:off x="414360" y="2968560"/>
                <a:ext cx="421560" cy="474840"/>
              </a:xfrm>
              <a:prstGeom prst="rect">
                <a:avLst/>
              </a:prstGeom>
              <a:solidFill>
                <a:srgbClr val="ffcf01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783000" y="2968560"/>
                <a:ext cx="369000" cy="474840"/>
              </a:xfrm>
              <a:prstGeom prst="rect">
                <a:avLst/>
              </a:prstGeom>
              <a:gradFill rotWithShape="0">
                <a:gsLst>
                  <a:gs pos="0">
                    <a:srgbClr val="ffffff"/>
                  </a:gs>
                  <a:gs pos="100000">
                    <a:srgbClr val="ffcf01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55" name=""/>
            <p:cNvSpPr/>
            <p:nvPr/>
          </p:nvSpPr>
          <p:spPr>
            <a:xfrm>
              <a:off x="0" y="2895480"/>
              <a:ext cx="560520" cy="422280"/>
            </a:xfrm>
            <a:prstGeom prst="rect">
              <a:avLst/>
            </a:prstGeom>
            <a:gradFill rotWithShape="0">
              <a:gsLst>
                <a:gs pos="0">
                  <a:srgbClr val="ff0000"/>
                </a:gs>
                <a:gs pos="100000">
                  <a:srgbClr val="fffff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635040" y="2438280"/>
              <a:ext cx="31680" cy="1052640"/>
            </a:xfrm>
            <a:prstGeom prst="rect">
              <a:avLst/>
            </a:prstGeom>
            <a:solidFill>
              <a:srgbClr val="1c1c1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V="1">
              <a:off x="316080" y="3260520"/>
              <a:ext cx="8692920" cy="5544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1c1c1c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8640" bIns="864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 type="dt" idx="4"/>
          </p:nvPr>
        </p:nvSpPr>
        <p:spPr>
          <a:xfrm>
            <a:off x="990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 type="ftr" idx="5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1c1c1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 type="sldNum" idx="6"/>
          </p:nvPr>
        </p:nvSpPr>
        <p:spPr>
          <a:xfrm>
            <a:off x="68580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1c1c1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DC306C-FB5E-4991-A1C4-260199086A30}" type="slidenum">
              <a:rPr b="0" lang="en-US" sz="1400" spc="-1" strike="noStrike">
                <a:solidFill>
                  <a:srgbClr val="1c1c1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3333cc"/>
              </a:buClr>
              <a:buSzPct val="5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cf01"/>
              </a:buClr>
              <a:buSzPct val="5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00e4a8"/>
              </a:buClr>
              <a:buSzPct val="5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990720" y="18284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Developing Applications</a:t>
            </a:r>
            <a:br>
              <a:rPr sz="4400"/>
            </a:b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with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NL SIDL Team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MCS Division, ANL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ahoma"/>
              </a:rPr>
              <a:t>April 2003</a:t>
            </a:r>
            <a:endParaRPr b="0" lang="en-US" sz="3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de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and link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Run dri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ding a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se the bindings for the driver langu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ed in </a:t>
            </a:r>
            <a:r>
              <a:rPr b="0" lang="en-US" sz="2800" spc="-1" strike="noStrike">
                <a:solidFill>
                  <a:srgbClr val="000000"/>
                </a:solidFill>
                <a:latin typeface="Courier New"/>
              </a:rPr>
              <a:t>client-&lt;lang&gt;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ple source files can be us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languages can also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lease reconsider using Fortra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uilding the Driver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ython is EASY, just make cal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itions to the makefi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ist of driver sour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cation of driver execut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t driver source in inpu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river build targe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"/>
          <p:cNvSpPr/>
          <p:nvPr/>
        </p:nvSpPr>
        <p:spPr>
          <a:xfrm>
            <a:off x="1521720" y="5562720"/>
            <a:ext cx="4752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Progra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Makefile Driver Exampl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31" name=""/>
          <p:cNvSpPr/>
          <p:nvPr/>
        </p:nvSpPr>
        <p:spPr>
          <a:xfrm>
            <a:off x="766440" y="2362320"/>
            <a:ext cx="7668000" cy="39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defineSource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import build.filese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url = self.project.getUrl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programs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bin’, ‘basicTests’)]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mustExist = 0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basicTestsSource’] = build.fileset.RootedFileSet(url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[os.path.join(‘driver’, ‘cxx’, ‘basicTests.cc’)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                                                                                     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tag = ‘cxx executable basicTests’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filesets[‘sidl’].children.append(self.fileset[‘basicTestsSource’]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def setupBuild(self)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defineSource(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self.sidlTemplate.addServer(‘Python’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retur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Basic Strategy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dd new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dit generated co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pile projec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ommit chan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Adding new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nly new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classes</a:t>
            </a: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 produce implementation f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terfaces produce only IOR and client fil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nterfaces/classes outside the current package must be fully qualifie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6" name=""/>
          <p:cNvSpPr/>
          <p:nvPr/>
        </p:nvSpPr>
        <p:spPr>
          <a:xfrm>
            <a:off x="1435320" y="2166840"/>
            <a:ext cx="5997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ackage Example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face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d say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ass HelloWorld implements-all Greet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tic void shoutHello()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SIDL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with ignores dependencies and only compiles SID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9" name=""/>
          <p:cNvSpPr/>
          <p:nvPr/>
        </p:nvSpPr>
        <p:spPr>
          <a:xfrm>
            <a:off x="3505320" y="300528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200040" y="5367240"/>
            <a:ext cx="27410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sid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diting Generated Code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ementation files are in the serv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Impl files contain </a:t>
            </a:r>
            <a:r>
              <a:rPr b="0" lang="en-US" sz="3200" spc="-1" strike="noStrike">
                <a:solidFill>
                  <a:srgbClr val="ff0000"/>
                </a:solidFill>
                <a:latin typeface="Tahoma"/>
              </a:rPr>
              <a:t>splicer bloc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k edit the file you wish to chan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sert code between the mark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Bitkeeper is the defaul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ther RC systems could be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3" name=""/>
          <p:cNvSpPr/>
          <p:nvPr/>
        </p:nvSpPr>
        <p:spPr>
          <a:xfrm>
            <a:off x="799920" y="2700360"/>
            <a:ext cx="8044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server-&lt;lang&gt;-&lt;file&gt;/&lt;package&gt;/&lt;class&gt;_imp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Example II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5" name=""/>
          <p:cNvSpPr/>
          <p:nvPr/>
        </p:nvSpPr>
        <p:spPr>
          <a:xfrm>
            <a:off x="583920" y="2133720"/>
            <a:ext cx="850644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fndef included_SIDL_Example_HelloWorld_impl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include "SIDL/Example/HelloWorld_impl/HelloWorld_impl.hh“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#endif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#include &lt;iostream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._includes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DL::Example::HelloWorld_impl::sayHello(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row (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::SIDL::NullIORException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begin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ff0000"/>
                </a:solidFill>
                <a:latin typeface="Tahoma"/>
              </a:rPr>
              <a:t>std::cout &lt;&lt; "Hello World" &lt;&lt; std::end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  </a:t>
            </a: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// DO-NOT-DELETE splicer.end(SIDL.Example.HelloWorld.sayHello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piling the Project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efault target handles compil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re is also a target that only compi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DL dependencies are also handl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so builds all dependenc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8" name=""/>
          <p:cNvSpPr/>
          <p:nvPr/>
        </p:nvSpPr>
        <p:spPr>
          <a:xfrm>
            <a:off x="2894760" y="4267080"/>
            <a:ext cx="3289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./make.py compi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150560" y="617040"/>
            <a:ext cx="77929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333399"/>
                </a:solidFill>
                <a:latin typeface="Tahoma"/>
              </a:rPr>
              <a:t>Commit the Changes</a:t>
            </a:r>
            <a:endParaRPr b="0" lang="en-US" sz="4400" spc="-1" strike="noStrike">
              <a:solidFill>
                <a:srgbClr val="333399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182600" y="2017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3333c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hanges to Impl files must be committed to Bitkeep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the graphical check-in to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en push to the par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"/>
          <p:cNvSpPr/>
          <p:nvPr/>
        </p:nvSpPr>
        <p:spPr>
          <a:xfrm>
            <a:off x="3125880" y="3876840"/>
            <a:ext cx="1826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citoo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3262680" y="5486400"/>
            <a:ext cx="1460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bk pus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5-09T18:09:01Z</dcterms:created>
  <dc:creator>knepley</dc:creator>
  <dc:description/>
  <dc:language>en-US</dc:language>
  <cp:lastModifiedBy>knepley</cp:lastModifiedBy>
  <dcterms:modified xsi:type="dcterms:W3CDTF">2003-05-14T12:40:41Z</dcterms:modified>
  <cp:revision>24</cp:revision>
  <dc:subject/>
  <dc:title>Developing Applications  with SIDL</dc:title>
</cp:coreProperties>
</file>